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AE5-2110-4D20-8780-E56ABF1B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8AB-A39B-4FA2-BBB2-16A138C2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A3BD4-057E-4A27-9AF3-E54985B4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8FA08-9EB0-4626-BAF7-BC6825DC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7281E-787A-4325-8F03-99DA3D77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E454-FD24-437F-90C4-2A599221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1F86B-9CE1-4C41-87C8-75ADB8E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3EE25-C486-449B-AA87-CC0B35B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46A39-098B-4C22-AA91-1A3F511F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E32DC-587A-4857-9CB9-557EA5FB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1FA45-4015-407A-8E81-6844C6D5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619B8-6A01-4CA2-83BE-630976B9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973-D399-4A28-8BF8-4DB3672A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B1AC2-ED2B-4CC3-81A3-27E56E60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21CE7-DFFB-47C9-9025-33019FD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E6BFA-7CAB-42D6-9D31-56A12CA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F1C00-7792-4CF7-AC3B-D8D5085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27163-5894-4E54-97C6-D938CF87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085FA-B995-473D-AE02-0895AF9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40D97-E6A2-47B8-9FAC-663712E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94572-D301-4037-8FA4-2FA3297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61D84-358E-4C2C-BA37-CC3D64A8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AD91F-1C71-4EDA-8A93-5613F952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AD5-52F7-47D4-A645-AADF8F52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D5FE2-AF5D-45A1-B29B-72ECCFD1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37F07-603D-44D3-A2FA-7266ADA3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C0B8F-A129-4E2A-8E77-F59CF9AB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DE0FD-EBAF-4BB6-A560-306BBB5E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CDF4-2C76-4A42-A531-653736A7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32825-C4B2-4617-86E1-118AE657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565AB-CC4C-4FEF-92BB-09AC2FC0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BD35F-F2EA-4B8A-9424-427E4F3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08500-B993-4EE7-AF72-2A19625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EF7F6-B260-4C1C-B9D8-9B84AA3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31D-DB98-4756-A638-03B83002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D9D63-8C3C-491C-A47E-311F311A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79C09-128C-4BCE-B741-7B40F573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0DF08-A7A4-4C51-9E89-616526E8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672C-ACE4-43A9-9136-8AA83E17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75D6-306F-42A7-8103-53BEF7EC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2660-CE12-4375-A0BD-EB3B6919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716-166B-4282-8FCE-611AC1C5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2A7-FE9E-45A6-A1B5-86634B4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9322-566D-4079-BE7F-0769338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0FE-769A-4941-BB67-CCEFB062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8F5C-9C5E-423D-B440-E13BB3C3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2A44-3ECF-4327-BD01-5B97E416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9A48-714E-4BA6-AC7A-21A4FE1F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AA1B-4476-49A3-AA45-0F13D4A3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951B-D9E2-4DA0-B68D-0E8A8903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294D-3B3C-4EC1-8D29-51609EF7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B986-B32A-41F2-ADBC-9B46173E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7C04-25FC-443C-85A8-E40E42E6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3DB4-5256-4D16-9F2C-2EF462A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4BD4-5209-49D3-AF02-D6FE77C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D49-70E7-4B9F-A0DF-6F176F3E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8369-6C08-46A6-A536-80C9DA09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4AE1-DD66-4EAF-8252-9057B495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7D37-ECC0-4B13-B8FB-28F1004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C672-E5DA-40D0-8AA4-EDA737B5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5D1F-AE96-4CFD-9522-561B7F19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B144-0A6D-4083-8831-B2CD9744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418B-8397-4A6C-9622-893094B6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D58A-E25D-4DAE-ABFD-4089AC4B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B760-611C-461D-A6D8-F08A6A97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7324-88A7-4005-9DE9-FD9C232B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FF3-BA81-4FCA-9263-5197BE68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6279-DE73-4E8C-AC01-A9F39E3E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5CBE-B441-4416-BFE1-0B49292A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05DA-4035-4998-A851-C67836C5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9E2E-D05A-4559-B569-AE062F8C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3BC2-2151-4336-B275-7151AF3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6036-49A6-4B94-9F55-AE71494B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8D90-120E-408D-BFA8-D235C8D3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F914-6F00-42ED-BF9C-5F3E2305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0641-13B5-45B8-AA15-18C76BBC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6D54-E86D-4132-BCB8-DC375FA3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420-7592-4FAA-8FB7-13D683B9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313A-02DF-4D49-B3B4-D52994B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473D-DFE1-4CE9-91D0-6C97199D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591D-2BF3-4993-8893-1AE7B475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83560-A2AE-4018-9498-2737ADC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3DF5-DD5E-43E3-8AC2-74AE58E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7937-B9E0-40D7-AEC0-B877469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0B758-CCAC-4393-910B-3F8C573E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1068-EDAB-4376-9E7D-DAF208A2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0834-00C0-4D1A-ABB9-547783E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B319-BFE5-49AF-B365-A2324535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350-F63B-4D2C-B490-697A173B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7B45-1A9A-494F-BD37-8BD18337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1A69-4975-40FF-B893-1B5C29E9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2FAE-DCAB-438D-9155-8DFE36F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4D4CD-9E12-4C5A-930C-DE39FFB9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8ADE-FFFD-4950-AD6F-1966ABF9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B1F6-7C33-43FA-B709-78CFD7F2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2B41D-C3F8-4544-900B-D98E3760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BEEB3-8CD9-471F-B270-2992E473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ABB8-F132-4DB6-9898-423C547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C3C7-7C9D-4E77-A311-0A2C0C1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B4A-30B8-4E85-B64F-B40EA917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5F53-9349-403A-85E8-EBEA9A85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138C-D8A7-4D1A-8F60-7B68DFF8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8C64-0BCB-4E7F-B158-44CAF2ED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1488-2CE2-4FD5-BAA5-7CF5EC18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54FF-B911-4846-86A4-F3B69568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0ABEC-3C79-4A3C-8FE2-4D6AB2C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492D9-88A8-4DD9-83CC-373F4883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7C9D9-72FB-47DE-8809-D284BAC4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FDDD-973B-4937-B438-65F0F953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57A3-AA15-46FB-AC34-B93A3AE5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F1A-20D3-4673-9FE5-16B843CF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DBB44-1BAD-4EE0-BCE2-A5FA08D8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DA6C-71B1-4B2E-8877-B82BE856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B9E6F-42B6-4DA4-8927-E9B97C4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ACC7-8234-4F87-BB06-22CEDE9A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C695-60BB-4CBF-BB19-7E61D0E2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CB0FF-488F-4114-8A82-30156765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FCBA-A26C-4CF1-9D3C-B0CAE99A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718F-56F5-4287-843B-9B5A5BD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D7B69-33A3-4448-82B5-EA4D7FB9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0C5F3-6938-4384-B360-90E2CE7D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E57-1CCB-4507-A9C6-BDB20CF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72C9F-6D24-448F-80D4-61CDE16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94074-3E16-40C6-A36A-EA2C990E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A7DC2-E94B-49D6-8515-A43FD84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78D4-C186-420C-8DAA-1A889CBD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A03B-D4FD-4D37-9189-1306489C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A488C-212E-4DCF-8E72-CCE1C791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A9B5-E902-404D-8EBB-25CEC6EE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17DCE-C156-465E-9D72-E10F71A5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87A5E-B986-41D8-B1CC-16C93F2B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950DB-2D64-46CB-8C3C-96070686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CEFD-1F68-427F-B62B-7906D1D0D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160E-CA44-46B6-B1ED-EC534E87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44F-3B47-4523-A8A2-37EDCA9B4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621-5B58-4B61-B7AA-4E2B49540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95DA-BCA6-4E15-839D-F6715F5D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FE2A-9A43-4AD5-84EE-DAE80EA91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5ACE-CEAE-4323-A9C0-3B45EAEDD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24A-7F03-4552-9AEC-C8E39767F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95A9-8BA6-4131-9C7D-2B0AACB6D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1BF5-7931-458B-AE06-1EE26E5B9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B250-5313-440C-975F-314DFE4C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2"/>
          <p:cNvSpPr/>
          <p:nvPr/>
        </p:nvSpPr>
        <p:spPr>
          <a:xfrm>
            <a:off x="1344600" y="4365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5"/>
          <p:cNvSpPr txBox="1"/>
          <p:nvPr/>
        </p:nvSpPr>
        <p:spPr>
          <a:xfrm>
            <a:off x="1763640" y="1628640"/>
            <a:ext cx="554508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z c 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1170-98AA-4105-B0C4-0BD2A9F6D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wall03-1024"/>
          <p:cNvPicPr/>
          <p:nvPr/>
        </p:nvPicPr>
        <p:blipFill>
          <a:blip r:embed="rId2"/>
          <a:stretch/>
        </p:blipFill>
        <p:spPr>
          <a:xfrm>
            <a:off x="-324000" y="-81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908000" y="2060640"/>
            <a:ext cx="8950680" cy="34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z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F2A-4519-48C6-A48D-3C0102447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4"/>
          <p:cNvSpPr txBox="1"/>
          <p:nvPr/>
        </p:nvSpPr>
        <p:spPr>
          <a:xfrm>
            <a:off x="324000" y="1197000"/>
            <a:ext cx="7920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zī zí zǐ z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6E26-86A9-4D7F-BB61-65338B18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9"/>
          <p:cNvSpPr/>
          <p:nvPr/>
        </p:nvSpPr>
        <p:spPr>
          <a:xfrm>
            <a:off x="1187280" y="429264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幼圆"/>
                <a:ea typeface="幼圆"/>
              </a:rPr>
              <a:t>半个圆圈</a:t>
            </a:r>
            <a:r>
              <a:rPr b="1" lang="en-US" sz="6600" spc="-1" strike="noStrike">
                <a:solidFill>
                  <a:srgbClr val="0033cc"/>
                </a:solidFill>
                <a:latin typeface="zypyyb"/>
                <a:ea typeface="zypyyb"/>
              </a:rPr>
              <a:t>c c c</a:t>
            </a:r>
            <a:r>
              <a:rPr b="0" lang="en-US" sz="6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1" descr="MDL-ZXM-1081-1"/>
          <p:cNvPicPr/>
          <p:nvPr/>
        </p:nvPicPr>
        <p:blipFill>
          <a:blip r:embed="rId3"/>
          <a:srcRect l="7433" t="20491" r="10595" b="18028"/>
          <a:stretch/>
        </p:blipFill>
        <p:spPr>
          <a:xfrm>
            <a:off x="4643280" y="126828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51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F20E-F32E-4392-9F18-7FC628F0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cɑ  ce  cu  c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AC1-8A89-4608-A603-0377232E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835280" y="2133720"/>
            <a:ext cx="95979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c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C336-1327-4D0B-B994-76B7B9DA2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4"/>
          <p:cNvSpPr txBox="1"/>
          <p:nvPr/>
        </p:nvSpPr>
        <p:spPr>
          <a:xfrm>
            <a:off x="457200" y="220500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cī cí cǐ c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2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9FA8-3D1F-42E4-9DE9-186824C57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3"/>
          <p:cNvPicPr/>
          <p:nvPr/>
        </p:nvPicPr>
        <p:blipFill>
          <a:blip r:embed="rId2"/>
          <a:stretch/>
        </p:blipFill>
        <p:spPr>
          <a:xfrm>
            <a:off x="4572000" y="476280"/>
            <a:ext cx="3651120" cy="36003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9"/>
          <p:cNvSpPr/>
          <p:nvPr/>
        </p:nvSpPr>
        <p:spPr>
          <a:xfrm>
            <a:off x="1619280" y="429264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半个 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8 </a:t>
            </a: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字 </a:t>
            </a:r>
            <a:r>
              <a:rPr b="1" lang="en-US" sz="5400" spc="-1" strike="noStrike">
                <a:solidFill>
                  <a:srgbClr val="660033"/>
                </a:solidFill>
                <a:latin typeface="zypyyb"/>
                <a:ea typeface="zypyyb"/>
              </a:rPr>
              <a:t>s s s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2010_3_4_14_38_8_3226"/>
          <p:cNvPicPr/>
          <p:nvPr/>
        </p:nvPicPr>
        <p:blipFill>
          <a:blip r:embed="rId3"/>
          <a:stretch/>
        </p:blipFill>
        <p:spPr>
          <a:xfrm>
            <a:off x="0" y="0"/>
            <a:ext cx="3719520" cy="371952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13D-C963-4D73-A676-4C5F53DA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dj088"/>
          <p:cNvPicPr/>
          <p:nvPr/>
        </p:nvPicPr>
        <p:blipFill>
          <a:blip r:embed="rId2"/>
          <a:stretch/>
        </p:blipFill>
        <p:spPr>
          <a:xfrm>
            <a:off x="5724360" y="981000"/>
            <a:ext cx="1873440" cy="2305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2262686_193656038_2"/>
          <p:cNvPicPr/>
          <p:nvPr/>
        </p:nvPicPr>
        <p:blipFill>
          <a:blip r:embed="rId3"/>
          <a:stretch/>
        </p:blipFill>
        <p:spPr>
          <a:xfrm>
            <a:off x="0" y="1341360"/>
            <a:ext cx="1884240" cy="2016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200811875512522_2"/>
          <p:cNvPicPr/>
          <p:nvPr/>
        </p:nvPicPr>
        <p:blipFill>
          <a:blip r:embed="rId4">
            <a:lum contrast="18000"/>
          </a:blip>
          <a:srcRect l="47027" t="5759" r="0" b="22353"/>
          <a:stretch/>
        </p:blipFill>
        <p:spPr>
          <a:xfrm>
            <a:off x="3780000" y="1484280"/>
            <a:ext cx="1782720" cy="1873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200932125940862_2"/>
          <p:cNvPicPr/>
          <p:nvPr/>
        </p:nvPicPr>
        <p:blipFill>
          <a:blip r:embed="rId5">
            <a:lum contrast="24000"/>
          </a:blip>
          <a:srcRect l="11118" t="21538" r="12471" b="13860"/>
          <a:stretch/>
        </p:blipFill>
        <p:spPr>
          <a:xfrm>
            <a:off x="1908000" y="1557360"/>
            <a:ext cx="1872000" cy="1727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ɑ   se   su   s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6D5-0A41-4A9E-B152-F08D46051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340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4661bc1b9f36d0e0832f18b900c375b6"/>
          <p:cNvPicPr/>
          <p:nvPr/>
        </p:nvPicPr>
        <p:blipFill>
          <a:blip r:embed="rId2"/>
          <a:srcRect l="0" t="0" r="8479" b="15055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546" name="WordArt 4"/>
          <p:cNvSpPr txBox="1"/>
          <p:nvPr/>
        </p:nvSpPr>
        <p:spPr>
          <a:xfrm>
            <a:off x="539640" y="404640"/>
            <a:ext cx="61200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s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4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0BA2-B08B-4A95-993D-8DEA94CB7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sī sí sǐ s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FD43-2D34-4E41-8336-D0C17B05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2133"/>
          <p:cNvPicPr/>
          <p:nvPr/>
        </p:nvPicPr>
        <p:blipFill>
          <a:blip r:embed="rId3"/>
          <a:stretch/>
        </p:blipFill>
        <p:spPr>
          <a:xfrm>
            <a:off x="1116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0" descr="12S314625250-21V5"/>
          <p:cNvPicPr/>
          <p:nvPr/>
        </p:nvPicPr>
        <p:blipFill>
          <a:blip r:embed="rId4"/>
          <a:stretch/>
        </p:blipFill>
        <p:spPr>
          <a:xfrm>
            <a:off x="1908000" y="1341360"/>
            <a:ext cx="4681800" cy="46814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274920" y="1773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f0076"/>
                </a:solidFill>
                <a:latin typeface="Arial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564000" y="2349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348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564000" y="191628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780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99"/>
                </a:solidFill>
                <a:latin typeface="Arial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3995640" y="2205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995640" y="2421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211640" y="2349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66"/>
                </a:solidFill>
                <a:latin typeface="Arial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995640" y="2060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66cc"/>
                </a:solidFill>
                <a:latin typeface="Arial"/>
              </a:rPr>
              <a:t>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4211640" y="2276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3300"/>
                </a:solidFill>
                <a:latin typeface="Arial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4427640" y="2852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635280" y="213372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c1c1c"/>
                </a:solidFill>
                <a:latin typeface="Arial"/>
              </a:rPr>
              <a:t>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067280" y="2060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0080"/>
                </a:solidFill>
                <a:latin typeface="Arial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572000" y="2637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3924360" y="220500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C55-01F6-46DA-B902-7663CF6B9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042920" y="90792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妞妞写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4574160" y="76500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4292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儿吐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427640" y="1625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042920" y="285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430160" y="27082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1042920" y="37162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一个半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4503240" y="357336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CC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16000" y="4581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像个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4574160" y="450864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5"/>
          <p:cNvSpPr txBox="1"/>
          <p:nvPr/>
        </p:nvSpPr>
        <p:spPr>
          <a:xfrm>
            <a:off x="2124000" y="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猜谜语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DA3-DC06-41FB-9030-E0F86A27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46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899640" y="404640"/>
            <a:ext cx="6551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zz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圆半圆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c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个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字就是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2_1"/>
          <p:cNvPicPr/>
          <p:nvPr/>
        </p:nvPicPr>
        <p:blipFill>
          <a:blip r:embed="rId3"/>
          <a:stretch/>
        </p:blipFill>
        <p:spPr>
          <a:xfrm>
            <a:off x="7667640" y="5373720"/>
            <a:ext cx="1152360" cy="1233360"/>
          </a:xfrm>
          <a:prstGeom prst="rect">
            <a:avLst/>
          </a:prstGeom>
          <a:ln w="0">
            <a:noFill/>
          </a:ln>
        </p:spPr>
      </p:pic>
      <p:sp>
        <p:nvSpPr>
          <p:cNvPr id="568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66D1-0A92-4D88-BB0F-3245ACC98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8360" y="1238040"/>
            <a:ext cx="251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572" name="Line 4"/>
          <p:cNvSpPr/>
          <p:nvPr/>
        </p:nvSpPr>
        <p:spPr>
          <a:xfrm>
            <a:off x="5292720" y="17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5292720" y="2708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364000" y="76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29272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20B5-777D-4FE6-BBE4-92A7B08A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076720" y="1600200"/>
            <a:ext cx="15112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79" name="Line 5"/>
          <p:cNvSpPr/>
          <p:nvPr/>
        </p:nvSpPr>
        <p:spPr>
          <a:xfrm>
            <a:off x="4572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572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4572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4572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1114560" y="5300640"/>
            <a:ext cx="72738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2929-3931-4E66-9680-657F68A8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72840" y="1600200"/>
            <a:ext cx="2243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3"/>
          <p:cNvPicPr/>
          <p:nvPr/>
        </p:nvPicPr>
        <p:blipFill>
          <a:blip r:embed="rId2"/>
          <a:stretch/>
        </p:blipFill>
        <p:spPr>
          <a:xfrm>
            <a:off x="5076720" y="333360"/>
            <a:ext cx="3651480" cy="3600360"/>
          </a:xfrm>
          <a:prstGeom prst="rect">
            <a:avLst/>
          </a:prstGeom>
          <a:ln w="0">
            <a:noFill/>
          </a:ln>
        </p:spPr>
      </p:pic>
      <p:sp>
        <p:nvSpPr>
          <p:cNvPr id="588" name="Line 5"/>
          <p:cNvSpPr/>
          <p:nvPr/>
        </p:nvSpPr>
        <p:spPr>
          <a:xfrm>
            <a:off x="108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08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108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08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96BB-F649-44CB-AC79-EE7CEB701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900000" y="981000"/>
            <a:ext cx="48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     c     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5" name="WordArt 6"/>
          <p:cNvSpPr txBox="1"/>
          <p:nvPr/>
        </p:nvSpPr>
        <p:spPr>
          <a:xfrm>
            <a:off x="539640" y="3789360"/>
            <a:ext cx="50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i   ci   si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E6CA-8946-44C8-969F-B48C3C9B1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4"/>
          <p:cNvSpPr txBox="1"/>
          <p:nvPr/>
        </p:nvSpPr>
        <p:spPr>
          <a:xfrm>
            <a:off x="1403280" y="234936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cī cí cǐ c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99" name="WordArt 5"/>
          <p:cNvSpPr txBox="1"/>
          <p:nvPr/>
        </p:nvSpPr>
        <p:spPr>
          <a:xfrm>
            <a:off x="1403280" y="333360"/>
            <a:ext cx="612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黑体"/>
              </a:rPr>
              <a:t>zī zí zǐ z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黑体"/>
              <a:ea typeface="黑体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332000" y="4292640"/>
            <a:ext cx="6264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黑体"/>
              </a:rPr>
              <a:t>sī sí sǐ s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黑体"/>
              <a:ea typeface="黑体"/>
            </a:endParaRPr>
          </a:p>
        </p:txBody>
      </p:sp>
      <p:sp>
        <p:nvSpPr>
          <p:cNvPr id="601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112D-B3EE-44F4-9D44-2443D5296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IMAG1238549786024439"/>
          <p:cNvPicPr/>
          <p:nvPr/>
        </p:nvPicPr>
        <p:blipFill>
          <a:blip r:embed="rId2"/>
          <a:srcRect l="0" t="20117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0" y="764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sī jī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cí yǔ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zǐ sè  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tuō mǎ s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_1"/>
          <p:cNvPicPr/>
          <p:nvPr/>
        </p:nvPicPr>
        <p:blipFill>
          <a:blip r:embed="rId3"/>
          <a:stretch/>
        </p:blipFill>
        <p:spPr>
          <a:xfrm>
            <a:off x="8059680" y="5697360"/>
            <a:ext cx="1084320" cy="1160640"/>
          </a:xfrm>
          <a:prstGeom prst="rect">
            <a:avLst/>
          </a:prstGeom>
          <a:ln w="0">
            <a:noFill/>
          </a:ln>
        </p:spPr>
      </p:pic>
      <p:sp>
        <p:nvSpPr>
          <p:cNvPr id="60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D874-DAC5-4DD5-8DC3-83E58615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46_1286934152Z7Vg"/>
          <p:cNvPicPr/>
          <p:nvPr/>
        </p:nvPicPr>
        <p:blipFill>
          <a:blip r:embed="rId2"/>
          <a:stretch/>
        </p:blipFill>
        <p:spPr>
          <a:xfrm>
            <a:off x="6480" y="3240"/>
            <a:ext cx="9099360" cy="6823080"/>
          </a:xfrm>
          <a:prstGeom prst="rect">
            <a:avLst/>
          </a:prstGeom>
          <a:ln w="0">
            <a:noFill/>
          </a:ln>
        </p:spPr>
      </p:pic>
      <p:sp>
        <p:nvSpPr>
          <p:cNvPr id="478" name="WordArt 4"/>
          <p:cNvSpPr txBox="1"/>
          <p:nvPr/>
        </p:nvSpPr>
        <p:spPr>
          <a:xfrm>
            <a:off x="2195640" y="-17136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你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623-1731-4DE4-B635-98AAA292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434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48360" y="-6075000"/>
            <a:ext cx="2519280" cy="160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5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3" name="Picture 4" descr="1"/>
          <p:cNvPicPr/>
          <p:nvPr/>
        </p:nvPicPr>
        <p:blipFill>
          <a:blip r:embed="rId2"/>
          <a:stretch/>
        </p:blipFill>
        <p:spPr>
          <a:xfrm>
            <a:off x="-25236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像个小２ 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z z z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0" descr="f704bdfe50255cb9b901a0f7"/>
          <p:cNvPicPr/>
          <p:nvPr/>
        </p:nvPicPr>
        <p:blipFill>
          <a:blip r:embed="rId3"/>
          <a:stretch/>
        </p:blipFill>
        <p:spPr>
          <a:xfrm>
            <a:off x="4643280" y="0"/>
            <a:ext cx="3810240" cy="3314880"/>
          </a:xfrm>
          <a:prstGeom prst="rect">
            <a:avLst/>
          </a:prstGeom>
          <a:ln w="0">
            <a:noFill/>
          </a:ln>
        </p:spPr>
      </p:pic>
      <p:sp>
        <p:nvSpPr>
          <p:cNvPr id="48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5189-9086-4228-BA41-433719D3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97440" y="1341360"/>
            <a:ext cx="167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141800" y="3357720"/>
            <a:ext cx="19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044360" y="3284640"/>
            <a:ext cx="13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173240" y="1143000"/>
            <a:ext cx="14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E09B-D5B1-4143-A7D6-DBE081FA2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639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ā  zá   zǎ  z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9963-A3FE-4800-AF60-72CFB720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ē  zé  zě  z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048-FD38-4BE2-B2F4-42C355FDA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ū  zú   zǔ  z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A2FB-0F48-45AD-AB4F-827B8233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zuō  zuó  zuǒ  z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4BE-B2ED-453F-98F5-FE0DC668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5:40Z</dcterms:created>
  <dc:creator/>
  <dc:description/>
  <cp:keywords/>
  <dc:language>en-US</dc:language>
  <cp:lastModifiedBy>User</cp:lastModifiedBy>
  <dcterms:modified xsi:type="dcterms:W3CDTF">2016-10-05T12:47:28Z</dcterms:modified>
  <cp:revision>57</cp:revision>
  <dc:subject/>
  <dc:title>幻灯片 1</dc:title>
</cp:coreProperties>
</file>